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46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6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926-4D32-44EF-B494-BD9EE39A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3C0-0554-49F2-AFBF-03E7EED9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F00-136A-40CA-98B3-C746A0EE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4FB-C3B2-4151-95D4-ACF22FDC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C33F-3216-4EC9-B456-6F936C11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5B61-EBD2-4825-A562-E4898F67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C818-79FF-4523-AA5E-AA5E10B5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5AAA-41AE-42FA-9500-6D72DA7F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ED22-C81F-417D-8541-D328A240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D172-F417-4186-A81C-AB821C9C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4C7B-159E-47A2-B5F3-0BD7DAD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D1E-677F-4311-9059-1F54310A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5D0C-0531-43F3-B00E-72DF8DD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957F-8F30-4898-B86B-C3552E3E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6D8E-75EE-4419-99BD-D8FF9393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5B00-F5FD-4DEE-ABAB-5357AE2B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100D-F6FB-4246-A8EF-22406D62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406-A57D-44E2-8274-B2F453AA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223-98F7-4C67-AFB0-C7E242A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ABF-399E-4CD3-A874-88FC3F34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71F-24D1-44EF-8A45-C75E3BEA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BD2-CC50-4BC7-AD8A-D1D27DE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619-AA9D-4E37-A8AA-1E0798D5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E5C-1F03-4DD5-B695-A098908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21EF-663F-4148-8F31-FD940E58D73E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02FB-BCD3-4771-96AD-27449CD2BB4C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Tahoma"/>
              </a:rPr>
              <a:t>Datalist Terminology</a:t>
            </a: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ader Recor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top row of an Excel 2000 datalist naming the field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el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single item of data common to all recor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Column in Excel 2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ximum of 256 (32 Form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collection of Data about an individual ite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Row in Excel 2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ximum 65,53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48616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724280" y="2819520"/>
          <a:ext cx="2895840" cy="105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2819520"/>
                    <a:ext cx="28958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 flipV="1">
            <a:off x="5334120" y="3886200"/>
            <a:ext cx="0" cy="457200"/>
          </a:xfrm>
          <a:prstGeom prst="line">
            <a:avLst/>
          </a:prstGeom>
          <a:ln w="93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4343400"/>
            <a:ext cx="144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Fields = colum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7467480" y="3543120"/>
            <a:ext cx="533520" cy="37800"/>
          </a:xfrm>
          <a:prstGeom prst="line">
            <a:avLst/>
          </a:prstGeom>
          <a:ln w="93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24680" y="34290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Record = R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4382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Header Recor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467120" y="2590920"/>
            <a:ext cx="419400" cy="380880"/>
          </a:xfrm>
          <a:prstGeom prst="line">
            <a:avLst/>
          </a:prstGeom>
          <a:ln w="93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Using the Data Form</a:t>
            </a:r>
            <a:endParaRPr b="0" lang="en-US" sz="4400" spc="-1" strike="noStrike">
              <a:solidFill>
                <a:srgbClr val="0066c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00280" cy="44434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5812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Excel 2000 Data Form allows you to easily view, modify, add, and delete records from a list or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You can also use the Data Form to display specific records based on a filter crite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9T14:42:10Z</dcterms:created>
  <dc:creator>Cheltenham Computer Training www.cctglobal.com</dc:creator>
  <dc:description>Cheltenham Computer Training www.cctglobal.com</dc:description>
  <cp:keywords>Cheltenham Computer Training www.cctglobal.com</cp:keywords>
  <dc:language>en-US</dc:language>
  <cp:lastModifiedBy>Judith Harriman</cp:lastModifiedBy>
  <cp:lastPrinted>1995-09-17T14:04:00Z</cp:lastPrinted>
  <dcterms:modified xsi:type="dcterms:W3CDTF">2004-04-23T09:13:16Z</dcterms:modified>
  <cp:revision>23</cp:revision>
  <dc:subject>Cheltenham Computer Training www.cctglobal.com</dc:subject>
  <dc:title>Cheltenham Computer Training www.cctglobal.com</dc:title>
</cp:coreProperties>
</file>